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FCF-57F6-4B9D-B94A-09FF4C3E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F96-3FA9-4C51-A168-4B43A9FC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C0E-07FE-4C9E-9E51-890253E3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0D0-48EF-46CD-AE34-8B1F723C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F2A7-0DC5-4018-B4BC-13B8A63E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A2AD-23F3-4C94-A046-10DAB300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7F00-70B2-4CC2-9F6D-6669739F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CC84-95C3-4A18-B056-7C936AF9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EF19-977C-4133-9B42-D2607EA8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8354-EABE-485D-AF87-C588392C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A543-3A5E-4D7E-AEB6-FFF5AE1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2D9-2154-48A7-BAFE-6F973945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5EAF-8F5C-460F-AB44-08F3B1C6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9C45-18BB-42A6-BBD3-65464285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AA9A-1998-4289-A4F3-4374CE9D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DCCE-7340-4FDF-8E38-21B92D20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0942-50A2-4060-B8D5-A63A386D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BAA-B4D7-4E62-95B4-87A5925E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D10-F7AB-4E0C-988F-F7E603D9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572-C7E9-47E6-94F1-4E02B35F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DBC-609A-4671-B51E-34E5013F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55D-3F95-457A-81EC-66A3078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842-5532-4077-81AD-F5D2692F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410-3989-43D8-8278-4230254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34ED-38A2-4375-BFAC-531AF49F19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E791-09D7-4F13-9240-745DD3840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B0B4-EF9E-49EF-AF12-236637CD47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75E-C1D9-4B5D-8BA5-5ADE2F68C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ДОХОДЫ БЮДЖЕТ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87280" y="1197000"/>
          <a:ext cx="77076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77076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2195640" y="1628640"/>
            <a:ext cx="936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772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1628640"/>
            <a:ext cx="93636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8867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6400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2077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9036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79600" y="0"/>
          <a:ext cx="7983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0"/>
                    <a:ext cx="7983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Структура доходов на 2015 год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9280" y="1125360"/>
          <a:ext cx="8785440" cy="547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87854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Структура налоговых и неналоговых доходов </a:t>
            </a:r>
            <a:br>
              <a:rPr sz="2500"/>
            </a:b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на 2015 год</a:t>
            </a:r>
            <a:endParaRPr b="0" lang="en-US" sz="25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996920"/>
          <a:ext cx="4038480" cy="373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96920"/>
                    <a:ext cx="4038480" cy="37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50920" y="1268280"/>
          <a:ext cx="8785080" cy="505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268280"/>
                    <a:ext cx="878508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332000" y="1015920"/>
          <a:ext cx="734544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15920"/>
                    <a:ext cx="73454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979640" y="183348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63319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1844640"/>
            <a:ext cx="93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62556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4716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2753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1197000"/>
          <a:ext cx="864216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6421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70028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74465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299736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5395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075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790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расходов бюджета    на 2015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55640" y="836640"/>
          <a:ext cx="7920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920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cc"/>
                </a:solidFill>
                <a:latin typeface="Arial"/>
              </a:rPr>
              <a:t>Структура расходов бюджета на 2015 год в рамках муниципальных программ</a:t>
            </a:r>
            <a:endParaRPr b="0" lang="en-US" sz="3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66880" y="1417680"/>
          <a:ext cx="7478640" cy="54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417680"/>
                    <a:ext cx="747864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Администратор</cp:lastModifiedBy>
  <dcterms:modified xsi:type="dcterms:W3CDTF">2014-12-16T04:52:16Z</dcterms:modified>
  <cp:revision>36</cp:revision>
  <dc:subject/>
  <dc:title>Слайд 1</dc:title>
</cp:coreProperties>
</file>